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113103"/>
        <c:axId val="6054971"/>
      </c:barChart>
      <c:catAx>
        <c:axId val="401131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4971"/>
        <c:crosses val="autoZero"/>
        <c:auto val="1"/>
        <c:lblAlgn val="ctr"/>
        <c:lblOffset val="100"/>
        <c:noMultiLvlLbl val="0"/>
      </c:catAx>
      <c:valAx>
        <c:axId val="60549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131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0B23-FB81-47BD-8A02-A849B112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FD2F-54AC-4D99-A8A9-CF73B3A2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D677-82DB-4DE7-B773-C0B666D4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E9C8-535A-4C94-BC24-30D4B5FC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FB2A-5A96-4302-B6FA-9231328B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64D5-9F0D-4175-B333-F3D85B5C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12A5-121C-4D65-AF66-F50D9A4E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642D-FD05-48A3-AB56-A60757E2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01F4-13F0-4932-87D3-43403504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EBF8-A882-45D8-9019-F0B36BEF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3A87-B6CF-47F3-BFF9-85568336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64BF-DD65-4182-9F8C-D20EDC02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311F9-1A33-4D6D-B89B-EB530A4999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