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67583"/>
        <c:axId val="23307118"/>
      </c:barChart>
      <c:catAx>
        <c:axId val="603675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07118"/>
        <c:crosses val="autoZero"/>
        <c:auto val="1"/>
        <c:lblAlgn val="ctr"/>
        <c:lblOffset val="100"/>
        <c:noMultiLvlLbl val="0"/>
      </c:catAx>
      <c:valAx>
        <c:axId val="23307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675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4F18-256B-45D0-A977-AF898101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0AF6-DEC7-44C8-BA0F-1A0FB614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C4D1-46DB-4B11-8EC6-5DC9E83D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4CCA-3D61-4381-9C2C-25040632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3C1-C866-479B-9A4B-F5CFF95B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95AC-388B-42B0-AA0A-793AD110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3881-0567-42E5-8069-0D27F911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4146-02F2-4694-A26F-27002BE5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B683-17E0-42F3-8CB9-0001DDD4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AAD-595D-4E64-A1DC-8B454E3C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2232-CD6B-440D-948F-5775BFA9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F48-2986-4B4A-998D-FB30D881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196D4-1A24-4545-8A98-BCBB3DD696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