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47537"/>
        <c:axId val="59288300"/>
      </c:barChart>
      <c:catAx>
        <c:axId val="92747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88300"/>
        <c:crosses val="autoZero"/>
        <c:auto val="1"/>
        <c:lblAlgn val="ctr"/>
        <c:lblOffset val="100"/>
        <c:noMultiLvlLbl val="0"/>
      </c:catAx>
      <c:valAx>
        <c:axId val="59288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47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403-5E97-4F04-B549-EC487B9D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003-22AA-4B7A-A20F-9D5406BF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1FC-8686-40EE-AE9C-4F5A76A7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7F2-C960-4983-95C3-AF728210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DE6-1090-4F2E-84DA-0A9F159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E85-54F5-41BB-BBB7-58160362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60C-0448-48A8-A0FE-4EFB8F11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B6B-5138-4FCF-9037-E0C9FAA7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AB9-5872-4809-A59E-630F5DE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9E2-4E52-4804-9F25-4A82263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DCF-31ED-49EA-BC18-9761DCE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FA3-5C5A-4C95-BA12-C76174E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B4B7D-FFDF-42E8-ACC3-D52A74DBA1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