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66253"/>
        <c:axId val="24613883"/>
      </c:barChart>
      <c:catAx>
        <c:axId val="4656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13883"/>
        <c:crosses val="autoZero"/>
        <c:auto val="1"/>
        <c:lblAlgn val="ctr"/>
        <c:lblOffset val="100"/>
        <c:noMultiLvlLbl val="0"/>
      </c:catAx>
      <c:valAx>
        <c:axId val="24613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6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B46-0B47-42BA-8A62-67FE54FE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A02-E159-467F-94F7-75985FF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56E-531B-4C5F-A3C5-3405D4BF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43E-1BF9-4811-9F66-37BBBC27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D28-C4F6-4E3E-B318-188052D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006-AA66-4F05-A717-065EF621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251-D886-4E72-833A-F188851B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3FD-51CE-471A-B0BB-415F47B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F43-77F7-4A8D-919A-ABF24B3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FFF-FCD5-4AE8-BBB5-E21FB41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A18-78B1-4F58-94A9-CF82C18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A03-ABBC-4B40-8617-5D7AE62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40A97-0D70-48BB-AFCF-3653CA2EB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