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6301"/>
        <c:axId val="16729433"/>
      </c:barChart>
      <c:catAx>
        <c:axId val="18446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29433"/>
        <c:crosses val="autoZero"/>
        <c:auto val="1"/>
        <c:lblAlgn val="ctr"/>
        <c:lblOffset val="100"/>
        <c:noMultiLvlLbl val="0"/>
      </c:catAx>
      <c:valAx>
        <c:axId val="16729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6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CE7-DA46-4C92-9CC1-1D97A903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E21-5B04-4813-A299-7EE170D7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B3D-BA5C-4BE5-B970-08F4C919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BAA-F4CE-4310-B3E7-EE217A76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7E0-6610-402C-9C19-28B97FE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090-D9FF-4FD9-B120-A612A3C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B74-FD5C-455F-B392-73345B0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EEC-7594-4287-9EC4-EE5975F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922-B2F1-44F0-A823-36AC29B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31A-1F05-4BBC-AD95-64FFCB4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D1A-7201-4B97-ADE3-521A8DA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CFB-2281-4BB2-AE16-89136C07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2B57A-6A2C-4D9E-A425-0EF737A0FF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