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48341"/>
        <c:axId val="19421791"/>
      </c:barChart>
      <c:catAx>
        <c:axId val="43848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21791"/>
        <c:crosses val="autoZero"/>
        <c:auto val="1"/>
        <c:lblAlgn val="ctr"/>
        <c:lblOffset val="100"/>
        <c:noMultiLvlLbl val="0"/>
      </c:catAx>
      <c:valAx>
        <c:axId val="19421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48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A99-4420-44FD-8503-0324771C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661-6C23-4952-A73C-37D9F66C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D92-91D2-48B2-BB77-6FE19D96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4E2-72BB-4ECF-B50D-DB86BD94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B66-8DB4-4CDC-B595-8EB5235D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7A6-5C55-44AE-B933-E09790DE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4D0-4FDF-4FF1-BD77-2548915F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5EB-4E39-40A9-8368-BDB47E76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E42-C233-4D00-85FE-31A3BD0D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399-510E-49DD-BBFD-9A6FAA70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2D77-9AC1-47A2-9E17-BA56E854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CD0-E9F4-44FA-A86D-E03070CB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66892-75D6-4639-AC48-BE41D25443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