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4337"/>
        <c:axId val="35439995"/>
      </c:barChart>
      <c:catAx>
        <c:axId val="1044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39995"/>
        <c:crosses val="autoZero"/>
        <c:auto val="1"/>
        <c:lblAlgn val="ctr"/>
        <c:lblOffset val="100"/>
        <c:noMultiLvlLbl val="0"/>
      </c:catAx>
      <c:valAx>
        <c:axId val="35439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4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0DF-3163-49EC-9D91-1B0993CD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F2D-80D5-46F9-8BFD-0A5FE751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18F-4B0C-4B4C-85CA-28A4FA70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192-0814-4F7C-9E71-6A607EB5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EA4-6D4D-410D-9ED0-15CA8019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48A-D164-45BC-AEA2-23F1229B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08F-9C2C-45A9-B05E-4BD8796B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EF7-CAFB-4AF7-8FB5-33F0EE7C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A3F-FA79-4A77-AA1D-FC085A46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E3F-FAB6-4063-A0AC-D31BBE61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844-6464-4F70-8786-A43EE17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AF9-6842-4036-A170-6122E5F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B9D7C-D9D1-4003-AC94-3B51B9501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