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688448"/>
        <c:axId val="97406217"/>
      </c:barChart>
      <c:catAx>
        <c:axId val="826884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06217"/>
        <c:crosses val="autoZero"/>
        <c:auto val="1"/>
        <c:lblAlgn val="ctr"/>
        <c:lblOffset val="100"/>
        <c:noMultiLvlLbl val="0"/>
      </c:catAx>
      <c:valAx>
        <c:axId val="974062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884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88B3-2FCC-4A69-87FE-1665FC7D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CA85-E747-42FB-9A08-40DEB660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9B2D-E659-4DDD-AD44-C8917095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7B96-5B6A-4B72-AC6A-20143106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F38D-5A07-4A61-A6E5-02F3F96A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105C-6874-4EBC-9F2D-7336F74D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E4F5-2889-4C57-8548-F78EE657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CE89-5567-4D99-BEA2-DA136ED1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4A06-5DC5-4315-963A-1AB7236C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9895-D63E-4A9C-91AF-AC3B144C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51C7-5F24-4D45-9E55-437938A1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C0AA-19C2-4C76-B8E2-A5C98CC4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72594-1C0B-4F6A-BB4F-1E85B5205E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