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083551"/>
        <c:axId val="52698674"/>
      </c:barChart>
      <c:catAx>
        <c:axId val="130835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98674"/>
        <c:crosses val="autoZero"/>
        <c:auto val="1"/>
        <c:lblAlgn val="ctr"/>
        <c:lblOffset val="100"/>
        <c:noMultiLvlLbl val="0"/>
      </c:catAx>
      <c:valAx>
        <c:axId val="526986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835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CAF-766F-40BB-A6CA-DDEC94AC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878B-2C1B-49CF-907A-A7FF34CD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ED42-9196-48D5-8320-529E0A4B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A202-C52D-4763-9D3C-364A267D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8940-DA5A-4712-ABD2-22D10EED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F962-4F5A-4FAF-B2CC-3B6C2A66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EAB8-2221-464A-81F1-B7999A51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90DA-F9C6-43CA-A28B-59882984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D68F-DA92-45AC-A4BD-A4D343A4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F44D-CE69-411E-80E4-5E999DF4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4A84-C4B8-4E24-B97E-556536C8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41A1-F2D3-4553-B8A5-34DE56B7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A2E64-1FAD-41DC-9B17-74A7E3ECD5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