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650417"/>
        <c:axId val="85867298"/>
      </c:barChart>
      <c:catAx>
        <c:axId val="41650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67298"/>
        <c:crosses val="autoZero"/>
        <c:auto val="1"/>
        <c:lblAlgn val="ctr"/>
        <c:lblOffset val="100"/>
        <c:noMultiLvlLbl val="0"/>
      </c:catAx>
      <c:valAx>
        <c:axId val="85867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50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5EE-7B89-405A-92C4-7CE4DB95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3D8-85BF-437D-ACAE-7C0E0E30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D64-6FF8-4B3A-AC74-D96A0BB0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424-70DC-4C12-BD16-C8148593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50D-096E-4E15-B67F-70835A0E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FC97-1522-469E-A98E-2AD24B26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CF2-E682-4539-AF2B-AB1B1D60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532-7922-4FAF-8E43-F8A0ED80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E872-8D62-4DE1-A07C-6B92191E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8D9-CBCF-453B-A8F3-3EB34296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6F24-81FA-4923-A84B-95C6499E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4381-7260-41D7-AFAA-3BD5905F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E9F97-2D38-49E4-8107-7B80287FBE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