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98346"/>
        <c:axId val="27944404"/>
      </c:barChart>
      <c:catAx>
        <c:axId val="88398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44404"/>
        <c:crosses val="autoZero"/>
        <c:auto val="1"/>
        <c:lblAlgn val="ctr"/>
        <c:lblOffset val="100"/>
        <c:noMultiLvlLbl val="0"/>
      </c:catAx>
      <c:valAx>
        <c:axId val="27944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8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762-6A41-42F3-8DFC-21F054E1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6A9-F1FB-46B5-9816-F9EE283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35E-0A23-45F3-8464-CC9D8F91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56D-3B48-492E-8482-2D05967F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CD2-2A81-423C-B9CF-7D711AB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B81-A84C-4EC9-A871-BFF2C7F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FCA-B85D-4771-9F7D-665C82E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DDC-0D4A-4403-ACB7-CF39561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EC7-9138-4E79-8E20-6F739E20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A92-5FF3-418D-B7D5-6606EF4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621-846C-4F56-9D1E-B846920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638-1D70-4C98-B4D8-C45E228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CD62-07B9-4E10-8F6F-74911DB67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