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16439"/>
        <c:axId val="80649460"/>
      </c:barChart>
      <c:catAx>
        <c:axId val="17116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9460"/>
        <c:crosses val="autoZero"/>
        <c:auto val="1"/>
        <c:lblAlgn val="ctr"/>
        <c:lblOffset val="100"/>
        <c:noMultiLvlLbl val="0"/>
      </c:catAx>
      <c:valAx>
        <c:axId val="80649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6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044-860C-485B-80BA-74D6AD0A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075-511D-4F3B-91F9-C47CB6B5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A82-AC12-4F43-9DF0-73E44402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1FB-5F86-496B-B8C8-AA5F2BD3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ADD-3549-4F4B-B4E1-18ECB852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DAA-3F86-4774-BCB2-7E5CD229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818-6C4A-4DE9-A5FF-FE2A0289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C17-FEEA-44E5-94B6-3AC4EE46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0B1-1872-44AB-BF88-7A0E553E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1EC-5DBE-44BA-92E2-797C0CB1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F24-411F-4F5E-B55F-123C030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D36-0DC9-4AD8-B5E5-6E54C12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5637F-8CAE-4353-BBC6-D19A612DFF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