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18880"/>
        <c:axId val="48667663"/>
      </c:barChart>
      <c:catAx>
        <c:axId val="43418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7663"/>
        <c:crosses val="autoZero"/>
        <c:auto val="1"/>
        <c:lblAlgn val="ctr"/>
        <c:lblOffset val="100"/>
        <c:noMultiLvlLbl val="0"/>
      </c:catAx>
      <c:valAx>
        <c:axId val="48667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18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4F-C32D-4DFA-9A11-032C36F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B3C-9830-44F3-904E-3338F24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63F-E42B-4E2B-B136-0016AB7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603-F6FB-4260-87BA-04B54F74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5CE-0121-409E-8F3C-BA61F00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AE9-8401-4765-B968-71519CE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194-CF2A-49E9-A617-311F85C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B53-E9D1-4AEE-97B3-7235DEFF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E02-3498-4DB8-94B7-A2975D7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742-0B9E-440B-B5D5-42F52D9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BE2-C6E7-40E7-941D-D8CCB21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27E-7BDC-4487-B597-86F0934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FE95-D671-4125-AD4E-DC43441AA2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