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15751"/>
        <c:axId val="49783146"/>
      </c:barChart>
      <c:catAx>
        <c:axId val="29515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83146"/>
        <c:crosses val="autoZero"/>
        <c:auto val="1"/>
        <c:lblAlgn val="ctr"/>
        <c:lblOffset val="100"/>
        <c:noMultiLvlLbl val="0"/>
      </c:catAx>
      <c:valAx>
        <c:axId val="49783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15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842-D848-4893-9D88-1C60F8A5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3B1-3066-4F9B-A4EF-4CE706FF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A99-BA5C-4011-89C0-9D3BEA78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5C43-F6DB-43B8-8496-8F93F3DF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A39-FB86-4564-9D1F-3448FA68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0AF-78B2-4C98-A4F0-A0BF6F40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4680-B8CF-47F1-9229-FD07D78F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BB7-4012-49BC-9F12-5A3CFF99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A5E5-693A-4880-96DE-D653B0A4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BABB-6E01-4B51-A434-37AB805A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4D3-FE0C-4FE8-A432-6218A1F8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EF5-6BAC-4D69-9DF6-5716F65F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8910A-29FE-4548-90DD-3A3520B56A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