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73459"/>
        <c:axId val="12782606"/>
      </c:barChart>
      <c:catAx>
        <c:axId val="71873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82606"/>
        <c:crosses val="autoZero"/>
        <c:auto val="1"/>
        <c:lblAlgn val="ctr"/>
        <c:lblOffset val="100"/>
        <c:noMultiLvlLbl val="0"/>
      </c:catAx>
      <c:valAx>
        <c:axId val="12782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73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F6C-415B-43A5-B870-FDADFB4B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4EB-8A35-4CF5-89BF-36AA6C7E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78F-5876-4C53-873B-21F0A8A2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666-BD1A-4291-A747-7456CD96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A05-72BA-4FD0-90BA-E357634D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CAC-AEB2-4991-AB50-86153086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A1A-14BF-4688-9C46-8E417839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0AD-C10D-473D-AEC5-D13D0E04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4F2-EDB7-4C40-82EA-AA48B786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F16-83AB-488B-A145-713473FA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5C9-F4EF-4E12-918C-EBB131E7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706-5F5F-4C96-A19A-48EDD4D0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42160-C5B1-443E-A340-98BF59A3DE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