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443842"/>
        <c:axId val="32663369"/>
      </c:barChart>
      <c:catAx>
        <c:axId val="184438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63369"/>
        <c:crosses val="autoZero"/>
        <c:auto val="1"/>
        <c:lblAlgn val="ctr"/>
        <c:lblOffset val="100"/>
        <c:noMultiLvlLbl val="0"/>
      </c:catAx>
      <c:valAx>
        <c:axId val="32663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4438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02B-66A2-4DCE-9230-1E559C9AC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1BE4-6E97-4B6D-9308-F8AF54BD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5CA-500F-4CC3-B9C3-B579F2EBB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3EB-1644-4DC7-9906-69B651CF2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8C5-A078-4DAF-BEAD-843E3890B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3E52-4D7F-4E26-ACB4-1379CED2A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3A7E-E5FF-4BFE-9202-3AAC4628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FE66-BE92-4A32-BE75-69B1E552E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ECC5-4BD6-4C17-9A48-EE765B45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0C5D-2050-4172-8419-0B895EB1A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D5A6-14E9-4E0F-85D4-E26EA1E2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B2A-CEE8-40F8-A2C6-9CCD37B9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1D5EFB-7B82-4A88-B68C-5AADCE1DE4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