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1217217"/>
        <c:axId val="31232562"/>
      </c:barChart>
      <c:catAx>
        <c:axId val="112172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1232562"/>
        <c:crosses val="autoZero"/>
        <c:auto val="1"/>
        <c:lblAlgn val="ctr"/>
        <c:lblOffset val="100"/>
        <c:noMultiLvlLbl val="0"/>
      </c:catAx>
      <c:valAx>
        <c:axId val="3123256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172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08A4-BBE5-44C1-9556-20F3F235BE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05AEE-91B1-4958-8DB1-F8B60E36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B34E-63BD-412A-8AAC-6696ECD9B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ACD86-2C8A-4CDF-B007-57ACC88775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BE6-BEBB-4A8E-8114-EFCB4C5FF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EB9E4-1302-4C59-AEEB-22D1A6A79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BB5D9-2A13-40A1-B299-45977A84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3739-A6AA-4EF1-80A1-22403C657A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43C-E094-424C-AAD3-F2583D45F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8006-9DBD-454D-B631-EA8BB0C66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42460-044B-49CA-95B6-608B52E3B8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DDD42-68EA-4A33-82F9-4C3541B23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9B926A-4FBE-43A7-A65C-B5F8A0A4AED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