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42051"/>
        <c:axId val="75359674"/>
      </c:barChart>
      <c:catAx>
        <c:axId val="18742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9674"/>
        <c:crosses val="autoZero"/>
        <c:auto val="1"/>
        <c:lblAlgn val="ctr"/>
        <c:lblOffset val="100"/>
        <c:noMultiLvlLbl val="0"/>
      </c:catAx>
      <c:valAx>
        <c:axId val="75359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2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AD9-80F8-4E91-86BF-B3FF4C91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384-7FB4-4646-8A38-4A67174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4A0-501B-4540-8024-F3165C77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5E0-FABB-470D-A24F-C0D41211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1AF-1159-4005-977D-3C51EE99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BDC-222F-44E7-9621-556DC12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D1D-C1F6-40B3-92F2-D7860FC4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9DE-36EF-4CBF-A5F4-13023FE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A02-D757-4DC1-AE82-00806FE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74A-1D7E-4066-AAD0-5AC4562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337-8002-4AA0-8978-7CF41D1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D41-B8F2-45C0-9F43-E40A483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79EAD-E618-4DB7-BB1B-9ECF947B27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